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776-2E6A-4353-ADF1-8B16D0CB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07A-D74D-4C9B-BA1B-A58070E8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0DA9A-2C24-4D91-9ABF-69FFD8A2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09B00-4307-48DF-A671-DC7E302A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825B7-F354-43B1-AA0F-F1E18CAE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A794B-BC51-466F-A94E-34040CF1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E7493-76EF-40FB-9450-5737DF45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F6F09-59DD-47CC-9D04-C5B270C5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0420F-98DB-4C2A-ABD1-CFD7D8D7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E9062-D763-40B6-99E8-A4443379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EC56C-CDAB-4238-8110-75D88A8D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6058E-E475-4452-B606-486D9349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5E9-A8B5-4AE3-A61C-83C5A389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92D9D-AFFD-4AAC-9D3C-725E8A9B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EE51F-FD81-46F2-B64F-DAFD96E1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85F5F-4849-4C47-A64C-B4C1A6A6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76CDE-A30E-40F3-9B92-53427271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1CC73-5962-4DC8-8B05-704D45BF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FFDF5-CF51-43D6-9E3E-F7D8D2DF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A5CCE-6028-48F8-8965-EEF7772C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F11E9-B12A-4E9D-9416-85EB9A62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B99A0-FD89-420A-8199-1935E4B5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9E5B7-9CB9-4F9C-B6BD-67E15E90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E11-3071-4CC0-A667-5DD709AD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EA985-BE70-435A-9F24-627CEE97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FAFE8-CBC1-421F-97BB-2C20B0EA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11304-3EDD-4285-B948-E5EA31BB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975CD-909D-44F3-AA78-25C0ABC7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259D8-2723-4A4B-8813-F6E75D89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B8FAA-6FCE-418C-84BB-EF4B5425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71BB8-11FD-4BEB-84F0-942A4467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4045B-43E5-4BF1-A55D-C6BFC8C6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A00FF-CD96-4D82-B15B-63AEE07A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CCC9F-78E6-41BB-A6ED-01402E77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BB47-B32F-418E-9A0F-E04D93DD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640C4-8359-433F-B4F5-1FA4A6E3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10520-761B-4F45-8326-725CEB71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CABA4-C09C-45EF-A424-70D86C98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FE275-B2BC-4041-8959-2CD4ACB2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12E65-DA98-4CDC-98FB-07FB5013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68DB8-396D-4D5E-80B1-EFAE7130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8595E-523A-431C-B129-AAC9BEF3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496C4-92AE-4E30-B3C5-7D6E17B5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450BD-3FCF-4314-AF7B-D3B39342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5EA80-410B-484E-9C6B-561445E4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0E1A-B621-48A5-B5F7-B766E5EF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5B083-7771-4333-A710-0E6A04C1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B37CB-A93B-4095-90A1-6ABE4F01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E1ECF-E578-4AB1-B30B-C1503C7D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25C60-05A4-4391-A5B4-4F994721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CFB16-3DEF-4063-B625-8523F931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E0EE8-1845-49B2-9DBC-7E879158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D14F3C-E480-40CA-9F40-42218F87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6F3D8-BB62-436A-AD5A-98607CCB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97FAB-C195-4102-857F-0C3DF6BA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84073B-6633-4BA3-806F-FA6522C2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2AA3-A194-47F2-8779-3007236C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918BE-3068-48C3-9516-A933D9C0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E846A-CF95-47EB-A729-3243F71C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748C3-FB15-4CFE-821F-B39555E3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0591E-BA79-48A5-B487-74289338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2280B-1A7D-4BB9-83A2-D9CDA424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6BBF01-35C2-4755-A598-8989834D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05B43-DB3D-4F38-BD4A-0F3E5294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636AC-2A9D-4B03-8EAB-08ADAAA1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E0C654-83B0-4D6F-AA02-0059BB2C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4CD5C1-21D0-4968-9DBC-58B22414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853C-B361-4EAF-A6F1-859DC80C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453875-038C-4CDB-803F-49763200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8BD267-0613-4F36-9EA4-49B18A31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DF1C30-1856-4AA7-B83D-A9745DC6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2F938-1F9A-4DEE-B45C-D8338CA9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AC0E8C-9FD0-4EC0-B01E-4D7C24B9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044BF7-E1A3-41B5-8BEB-12A154B7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9F715-B56A-4046-86E3-C2C06E41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CC02B6-DCE0-4057-B899-C5EB0C3D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7FBF7-DA31-49DF-9E05-9DF42FDC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FACE1E-2D6A-467B-9BF9-37F1844A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8D56-2941-4AED-891B-FD00CCF9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AFBC8B-1A60-4622-AEFB-0D824FC5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410C78-2344-448D-8955-52F099E5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6C2CC2-83CF-498B-84AC-70405334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FEDBB0-EE67-4F70-A63E-D70BEEE9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FF290-290B-437F-A3E6-0A79CF3B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8BCC2F-392B-4A30-AE10-F584429E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2EC548-9F81-4F00-A32D-FC80D177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7BE1E6-9BAE-445B-9641-8975DB3F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437EC9-0CE5-4CD3-979F-628F0DA6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D1E240-CACE-4102-B6AB-888DD742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4397-1177-4823-8797-2A86E04F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7BE510-D0FB-455F-8B2D-E1BA1B0F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50975C-EA1F-4B26-B7D1-4CA0CBAD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B5544B-294F-4927-A5C5-AC573586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D67BA5-BFB3-4DB8-B92E-F9B656CB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4AADA-0E34-4A6C-8BD0-C08F5EE2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3825D4-E769-4677-B8A1-705AD6A7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889FB3-DC81-4EA5-B482-14D4A6BA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E3AE3D-08B4-4958-948D-028580FA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6271F7-6887-4760-85D0-DA6CE1F1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AD2CD3-363E-457B-A6E2-557483ED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3E67-7D07-4AB1-828A-36105F67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468066-A513-4BC2-B03C-50213B3B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93D8DD-18C3-489B-9F83-FC6A6AA9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827788-F2D8-44B8-8429-EE60B89A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B68ABA-8F00-4156-A457-778E76B0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DBFE21-3F23-49E0-9A22-2D1D18DA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348A35-9E84-4A44-BFC0-DDB43703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C1A961-E2CF-4CB8-991F-F3821239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45B845-12D9-4D49-B156-C04DEB0C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64AC45-AF05-4676-87F5-0ABC5E54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51B7AD-5E3B-40DC-AD83-136A9343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D4C-7C1A-4230-94AE-D596EFA1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924B-55BB-496A-B14B-EAB13F8F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DF1068-56D7-4835-9B6F-F3271102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80D4B3-7B7E-4E40-A177-1A201126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5DE81E-C7F3-4B3E-8DA9-79C9E0E3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D46B9A-DF6B-4983-9A78-87902F51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04FECA-2618-40A5-B532-BA1CD092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E01C99-43AC-433C-96C8-7A974ABD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D1D0F8-5B4B-4D84-B688-BFB9D135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22E7CC-28C2-4BE9-ABA6-223CA913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382EE2-304D-41D7-95C4-63E6518C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D61F38-1742-4C1E-8528-DE1CCA0E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016D-94A1-49C8-A00B-30FD9C6F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7026E9-C9CC-4A1B-BE37-6774E7F8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A5AD03-CBF7-4608-9F7C-E7CF0A22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80996E-2CED-4401-BEC8-FBBAAB6C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5826AE-B4D7-4408-9D77-97433F95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379DF7-C462-4B10-A345-1309503F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562661-CF5A-41F3-8082-C0F57EF4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88B18B-8040-4441-AAD8-14EC241C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ABEF8F-C21B-47A5-9D05-C7A9976D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A5E028-42A3-47DA-B1CE-952BD611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D92E5E-9676-4724-9AB7-5529AB76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3CD4-D86B-4680-974D-841084D4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E077D1-E596-4D21-90F7-2C9F8C7A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9DBBC5-B08F-441F-9777-BE1CEDDB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A6A399-3423-4C8D-A358-82F6DFFA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BC1C59-1A78-4EBE-B7BE-2BD47874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B4D716-CE09-4AAD-B6E0-9CC88DCF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9507C8-37B3-43EE-B3DD-74BCD255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DB9365-A797-48D8-B14F-6E6CAEB8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0F0C29-94BC-4F38-AE25-B23FDB34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C58982-8474-422F-B005-AEC22FD5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D15582-F86E-4530-88BE-6AB5893D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CC7A-A65B-480B-A327-C140AF64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EA3944-AF0A-4577-83F6-1C715A9A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A2449B-D386-4E1E-94C5-A86D7C8B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BC13D2-D6D8-43F2-897A-22988A38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EF47DD-12F9-47DE-B0B6-199D5A95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FB0EB5-4D8D-4A4A-934C-8C4C25DB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086355-48FC-4026-8836-70EA6CF5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20BE8C-5E04-420D-9FA2-31A11C49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614B3B-34AC-45F0-BFDB-ADBB5492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9C9FD9-E9D6-4494-88DA-64269E9F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42236B-F5A8-43E3-8F0D-F4349539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B3FB-DA94-425C-9E83-7AF46D32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4D3AC0-69EE-43D2-9062-DBB6E55B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FFC28F-B863-4323-A09E-9A7D9951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81F723-9FD0-4F1F-872B-CBBDF1BD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3EBB74-7834-4BA8-829C-42FB2C23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8B0C0E-0928-452B-B4F8-876AAED8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1C5D72-253A-4B43-923C-607A5C40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532030-3689-4B77-AC73-CDA66224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68DE02-0323-4E4B-B42B-CDE40EC1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956E54-8972-4C93-86C6-75A426F0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0DF311-98A3-49E9-AF6C-3F2C32E5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8AAD8-6B4C-4DA7-892F-036D4BBB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9B18AA-F111-4E06-8DA7-ACB7024C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AAF196-94C7-417B-9E52-A2B5B029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88776B-7D55-4304-B78F-90221596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96D7C-2B8C-4170-B246-FED38A1F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6AEA-7B0F-48E9-AF40-AF68A734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D7CE1-74D2-4F3E-98E0-8CED43B5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1A7A3-24DD-4D0E-BF5C-3A97B1A2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8A01-1CAF-4B9C-BA91-EBD0A8B0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82FF3-2C8C-4D99-AE36-B8082D03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3B7C9-9C1E-4EC3-9EBE-CA984B77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E37F0-58C7-4884-AFF5-D7430828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A9FF8-85B3-41B5-BCFA-29F13EBE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338D0-7BC9-42D3-BDF7-7BFF83AC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51E7C-5612-4B3F-979C-1F0ABAC2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530EA-2543-4943-B782-E5710548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9AA64-088B-4234-92E6-1329C473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B24D7-61EA-4F91-9915-BC4475BD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D3061-581C-4DDD-AF03-14B6BA69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A46-F5E3-45CE-9FF5-53F5AB7D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0D072-1C1A-4A04-BF63-3BAD368D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A223D-4041-4C99-9C38-AEDD972D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2DB13-876C-440E-A8DD-18D9328E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E2499-A974-4C44-A7AE-9361E300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37327-497B-4AF8-9720-FFECEE96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AFCAD-0852-4327-A565-43078515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C219D-A43C-4A04-85DB-0DC99C05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0F96E-8CA9-4D5F-A5AD-C4FCD48F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C39ED-81D7-44DF-86B0-B5EFA8A0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72B9D-C28A-4B28-A361-49C666F4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52A-5B0D-4907-9938-FD795C86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EC3ED-3F12-4CA8-9F16-9C0524D9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B4206-7B8E-45CF-8BEE-98DFF826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59C90-4BA1-443F-8552-50982A60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860DF-A1DB-4046-815B-01A6A350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3EAB5-A7B4-4659-88A5-20AA5EFE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B052F-8128-4B62-9B82-42A69719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D70DE-6489-419A-90F9-B1800806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BE65C-C6E8-4585-92CC-79AF10CB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367E4-80FA-4A71-9B51-B80DD7C8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43E56-33DC-4E9E-9BD1-57D427B1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2E77-A04C-4D42-B9F1-FF231B1F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BE619-63F0-4ABC-83B3-575D65F6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B561F-1ACF-4DCD-B3BE-B648230E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24FE6-3B63-467A-A024-44CA5077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124B1-55E2-47E7-AA84-5A611B8A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5394D-A720-4AC8-9CFE-D21C9C75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09F31-0594-44C4-9E82-F507E1A6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8C375-D85E-4BA9-B375-206D3E16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D5F42-AAF9-4BBD-9586-7D4C79AF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FE14B-3035-402A-AB03-12769AD9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116F5-5CB7-4F09-A06E-3217F040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343E-7AA2-4780-AB69-3DA836F3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FEBF5-E14E-4106-ABAF-7F12B386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2405F-903D-4AA8-9A73-F8A8CA75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B8B0B-92F2-436A-904B-5F1B2410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3E25A-3C3E-4749-804F-39E36DD4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981FC-C657-4AEC-9C6E-131C4C81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44130-91D3-4D96-8FB2-7D797859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4D700-DFA4-46C3-96F7-B87E7BE9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1D42D-2FC5-410A-B58E-2E3999F5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7F73C-8C4B-4F23-ACFD-1A3BE928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051EA-C593-4E67-862C-5E5DE640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426-E35A-4D06-8D6F-5C85B3AF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75177-5ACA-4488-9DB2-F8645FEE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487E3-33D3-462C-8108-E7E186F6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0ECD3-3D8E-4E2C-B153-95750EC8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05CBF-908A-4FE5-86CD-7E2BAE1F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6C75A-9338-479D-A4B6-F4C4BAB1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BF99A-82ED-422B-A63B-660EB18C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0D600-F545-46E2-B96F-60E2F447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44ECE-1C9F-404A-AE96-7D25DB22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F0478-F3F8-4DC7-8A60-2638E3C3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9F4E1-38E1-4AD4-86DF-87A8A8E9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A029-C712-40DC-BF9D-609AAA57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6C351-51E1-4D9E-987D-F128F9F7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7DBA7-5C8B-424D-8A57-9B08791B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85CB8-3361-4568-88F9-948A0203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89659-EF32-471E-8B4F-DD0028D2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62E95-AF15-44FE-A496-AE06FB94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C1F7D-53ED-4370-825F-D2285645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C034F-B11F-4BDD-B2F5-9D3487E0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A2CD5-19A3-482D-AA0F-7D162582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C1C90-9A43-4104-8AE3-F9147A30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BE5D8-F071-495D-82CB-E625AF28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EBD6-13F7-470E-8ADC-A84B0084C7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B9B9-1A82-4C35-BCF4-64E342B01F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CB61-878A-48E1-9E2D-DDDBE0B840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656C-02BC-4553-A9CF-C7788EDACE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647D-FEF4-432C-9F42-EE1AFD65BF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5B50-0AA2-4EE3-AE6B-C5A0258E4A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6A18-257F-4CE3-96CD-BA605667CE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AFC4-A035-4818-AEE8-F58FCC6EE4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0856-706D-4754-89C4-40645A0B5A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51E9-305E-4ADA-AAE8-02CC00A6E4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A51F-2EC6-4CD1-9DE5-8E2DB2FAAA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8857-39B9-4D4B-A2BB-9D5F482C6E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0E47-0DCA-4A0E-B948-3C83A8D082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E372-B9A4-4D2E-BA2E-89B3E72721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C2F3-323B-4053-BFE2-0F4E74BEE0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DC92-8A76-457C-A063-D4525FEA7C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0F01-B2B1-4973-B638-DF3D6DD398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2C57-809B-48D3-9DA0-4008F99F45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729C-1573-4F66-8E72-C6B8215F31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9CB0-F339-41A2-B81F-2F8518BD57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41D7-162B-43D4-A926-85BA6C3C7C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FDE8-5B2E-47E3-A565-A71C553709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F8BE-8BFA-465D-ACB1-692203D000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6B4A-2E36-4748-BCA3-769C1DD178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2E58-B342-4606-896D-D0B243D1FB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6533-2A06-453F-94BB-6457873F7E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709C-8AC3-4BC5-ABE8-4BCA3A5C91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6ADF-F4E0-4395-80D1-96ABCF4159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728E-53B4-4642-A4FB-BCC7DC77AC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91DF-041C-4C89-BC0E-C5A1672439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2663-E4DF-4525-87F3-1A3D4428DA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E427-A235-4943-953C-BCBCF15F52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254A-B561-40BD-872C-B179DB660A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ABB8-7425-48D8-A612-64E93DE1B7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3BA2-C20E-4C17-B262-C07F4F125C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A0BC-11D5-4823-858A-B670D5E7FF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C746-32C3-450A-AE33-EA86E6CCB4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BBA8-73AE-4609-8DF3-776698B8B3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FBF3-6848-4417-B7C4-68C4C72D8F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086A-518F-4209-BEA3-8A1CD2DB4D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166840" y="3157560"/>
            <a:ext cx="4810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95120" y="1662120"/>
            <a:ext cx="8753760" cy="35337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124000" y="36259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851280" y="36352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843280" y="4327560"/>
            <a:ext cx="72072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826920" y="4932360"/>
            <a:ext cx="720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471600" y="1581120"/>
            <a:ext cx="8200800" cy="3695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2916360" y="4375080"/>
            <a:ext cx="431640" cy="2574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4140360" y="4365720"/>
            <a:ext cx="43164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5364000" y="4365720"/>
            <a:ext cx="43200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6588000" y="4365720"/>
            <a:ext cx="43200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3851280" y="4714920"/>
            <a:ext cx="72072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7380360" y="4714920"/>
            <a:ext cx="43164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8"/>
          <a:stretch/>
        </p:blipFill>
        <p:spPr>
          <a:xfrm>
            <a:off x="4932360" y="5013360"/>
            <a:ext cx="4316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8373" descr=""/>
          <p:cNvPicPr/>
          <p:nvPr/>
        </p:nvPicPr>
        <p:blipFill>
          <a:blip r:embed="rId1"/>
          <a:stretch/>
        </p:blipFill>
        <p:spPr>
          <a:xfrm>
            <a:off x="157320" y="1004760"/>
            <a:ext cx="8829360" cy="4848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1692360" y="3995640"/>
            <a:ext cx="718920" cy="257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4927680" y="3986280"/>
            <a:ext cx="71892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4572000" y="429264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2268360" y="531036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3492360" y="530064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4788000" y="5300640"/>
            <a:ext cx="57600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8"/>
          <a:stretch/>
        </p:blipFill>
        <p:spPr>
          <a:xfrm>
            <a:off x="6012000" y="5300640"/>
            <a:ext cx="576000" cy="2570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9"/>
          <a:stretch/>
        </p:blipFill>
        <p:spPr>
          <a:xfrm>
            <a:off x="8567640" y="2502000"/>
            <a:ext cx="39708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0"/>
          <a:stretch/>
        </p:blipFill>
        <p:spPr>
          <a:xfrm>
            <a:off x="8585280" y="2924280"/>
            <a:ext cx="39672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1"/>
          <a:stretch/>
        </p:blipFill>
        <p:spPr>
          <a:xfrm>
            <a:off x="8459640" y="3338640"/>
            <a:ext cx="39708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2"/>
          <a:stretch/>
        </p:blipFill>
        <p:spPr>
          <a:xfrm>
            <a:off x="8369280" y="3735360"/>
            <a:ext cx="39672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3"/>
          <a:stretch/>
        </p:blipFill>
        <p:spPr>
          <a:xfrm>
            <a:off x="8369280" y="4149720"/>
            <a:ext cx="39672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4"/>
          <a:stretch/>
        </p:blipFill>
        <p:spPr>
          <a:xfrm>
            <a:off x="8369280" y="4581360"/>
            <a:ext cx="396720" cy="2574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5"/>
          <a:stretch/>
        </p:blipFill>
        <p:spPr>
          <a:xfrm>
            <a:off x="8369280" y="5013360"/>
            <a:ext cx="39672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6"/>
          <a:stretch/>
        </p:blipFill>
        <p:spPr>
          <a:xfrm>
            <a:off x="8369280" y="5425920"/>
            <a:ext cx="3967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0:59:0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